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37A-A927-423B-A562-16483C4C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69E-A336-4030-ADB0-8C84C2B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386-EE80-4DEE-B0A5-83D25236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D15-6AC7-4B30-91C5-519D815D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96B4-DC50-4E7B-AF35-8465C2F2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53D-4716-4D10-8055-54BB91C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3C6-C4EE-416C-A5FC-FD30108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B09-CE99-42B3-B977-27E7130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3DE-9AEE-4324-8AE2-87B65C96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534-5AB7-43A8-AB92-0FD3EDF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885-4AED-41B8-B960-95B3644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B7D-E264-4DDF-BFBC-4F579DB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54C00-65D7-40CF-9164-058BD1F74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Karyasis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32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si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pada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280" y="2286000"/>
            <a:ext cx="8974080" cy="196524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3657240"/>
            <a:ext cx="9070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3000"/>
          </a:bodyPr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selanjutnya bergantung p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ersediaan periode perpanjangan yang ditawarkan oleh Di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men publikasi harus ada (khusus untuk beasiswa 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di atas adalah apabila Anda memenuhi syarat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konfirmasi pendaftaran 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2360" y="1563840"/>
            <a:ext cx="9051840" cy="18288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bila berhasil, tampilan akan seperti gambar di 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gambar folder di dalam kolom aksi untuk mengupload dokumen tambahan yang diminta Dik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46040" y="1755720"/>
            <a:ext cx="7523280" cy="20844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9360" y="5459040"/>
            <a:ext cx="9070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akan upload dokumen untuk masing-masing jenis dokumen yang dim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11200" y="1428840"/>
            <a:ext cx="7732800" cy="36003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elah semua dokumen yang dibutuhkan ter-upload, kembali ke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bergambar panah (di samping tombol folder). Ini berfungsi untuk mengubah status perpanjangan Anda dar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2240" y="5029200"/>
            <a:ext cx="8961480" cy="73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240" y="48466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ka tampilan sudah sama seperti di bawah ini, proses pengajuan Anda telah selesai. Tunggu proses validasi lebih lanj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tikan bahwa status ajuan menjadi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2920" y="4749840"/>
            <a:ext cx="9462960" cy="64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0240" y="43894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01:43Z</dcterms:modified>
  <cp:revision>12</cp:revision>
  <dc:subject/>
  <dc:title/>
</cp:coreProperties>
</file>