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DDB-ADA6-453E-ADF7-49E2073D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718-7F29-46A0-AC2B-062C26C2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729-94E1-4D2B-A527-97A28000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490-457B-4CEA-860F-4B9E5987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906-A47F-4128-894E-32145540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CCA-0752-4D47-A6A0-BEA06586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3DF-6EF7-421E-89BD-7BBCF04B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5EA-2C92-4157-B646-1737DC7F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FE9-F492-4B9D-A604-8307CF8C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695-7C88-4BC8-A9BA-B022FDB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379-9110-4BC1-89FA-0757DE2E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4C6-7169-47B6-9C13-259B8FB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F0FE8-AEB2-440E-B1DC-342669DF6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udi.dikti.go.id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463760"/>
            <a:ext cx="101458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NDUAN VALID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PANJANGAN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tuk Operator Perguruan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2800" y="5761080"/>
            <a:ext cx="90727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n k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tudi.dikti.go.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nggunakan akun Anda masing-m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68800" y="1646280"/>
            <a:ext cx="34066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4846680"/>
            <a:ext cx="9070920" cy="219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ih grup menu Administrasi, lalu klik pada menu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          untuk melihat daftar karyasiswa yang mengajukan perpanjanga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95320" y="1511280"/>
            <a:ext cx="8156520" cy="31510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68640" y="5761080"/>
            <a:ext cx="77148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1520" y="4936680"/>
            <a:ext cx="907092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ih status perpanjangan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jukan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u klik tomb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jut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folder untuk melihat detail usu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20960" y="1555920"/>
            <a:ext cx="6492960" cy="31492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447984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8000"/>
          </a:bodyPr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ES VALIDASI 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-284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a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e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u pilih statu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 Pengelol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ikan catatan apabila perlu, lalu kli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-284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hatian. </a:t>
            </a:r>
            <a:r>
              <a:rPr b="1" lang="en-US" sz="3200" spc="-1" strike="noStrike">
                <a:solidFill>
                  <a:srgbClr val="ff3333"/>
                </a:solidFill>
                <a:latin typeface="Arial"/>
              </a:rPr>
              <a:t>Data yang tidak lengkap/tidak memenuhi syarat tidak boleh divalida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81240" y="1371600"/>
            <a:ext cx="5683320" cy="30178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0:21:36Z</dcterms:created>
  <dc:creator/>
  <dc:description/>
  <dc:language>en-US</dc:language>
  <cp:lastModifiedBy/>
  <dcterms:modified xsi:type="dcterms:W3CDTF">2015-06-26T16:36:33Z</dcterms:modified>
  <cp:revision>16</cp:revision>
  <dc:subject/>
  <dc:title/>
</cp:coreProperties>
</file>